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39C-7980-4906-91FF-E070CB91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3F0-F750-4343-9BDC-C7BCB1E7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91D-7A57-4A19-AFEB-ABA84157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BFC-A5AA-4EF7-9F5B-21A17C2B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6BE-5137-4429-9605-92824E3D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657-9144-404C-BAFB-89EDFDC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005-BE5C-4837-A742-A5BEF13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09E-3D8B-4C85-8775-09BC6A7F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032-7D20-4ACD-8BCE-720873B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465-0734-4203-8C8B-5B1BBAA5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068-0716-41FD-8E9A-AFBAAEB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43B-D65E-4EF1-ADCF-4F820C9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8B7-15FF-4F3F-B95A-FC47CD77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School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tersessio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istrict 6                      Operations Meeting               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7400" y="2438280"/>
            <a:ext cx="33163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bur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ma Vista &amp; May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renc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l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otr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ton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is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ara &amp;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fic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mes &amp; Vernon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edy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249732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ast 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Int’l Studies 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East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Gate 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wood AHS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chool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1320" y="4518000"/>
            <a:ext cx="2801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2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Program Code 123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on fo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eleme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s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873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a16"/>
                </a:solidFill>
                <a:latin typeface="Arial"/>
              </a:rPr>
              <a:t>nancy.robinson @ lausd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323) 278-398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3413160"/>
            <a:ext cx="35352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2a16"/>
                </a:solidFill>
                <a:latin typeface="Arial"/>
              </a:rPr>
              <a:t>July 6 - August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35268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Appl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3 – April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summer.lausd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238464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4600" y="3846600"/>
            <a:ext cx="29383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-Ch-Ch-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6019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Summer School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er Academic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 of Math in Grades 2 &amp;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Elementary Classes 2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tional Supervision Aide for seco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Assistant Principal for high schools over 1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ustodial Over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paid preparation ho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2 – 5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A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Eligibility  for voluntary 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B or BB in ELA or Math,      Final Reading or Math mark of 1,  1 on Unit 3 PWA,                          SOAR Unit 3 Compreh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2490840" cy="354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6 –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l Cours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upervision A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incoming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flipH="1">
            <a:off x="6019560" y="3276720"/>
            <a:ext cx="2414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9 -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ar Pacing Plans &amp; Assess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P over 150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pervision A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for 1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551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30.0   Administ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70   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8.0  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 - 4629.0 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2963880" cy="34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s Eli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and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 and 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609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4120" y="3556080"/>
            <a:ext cx="32274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20:49:52Z</dcterms:created>
  <dc:creator>Ron Robinson</dc:creator>
  <dc:description/>
  <dc:language>en-US</dc:language>
  <cp:lastModifiedBy>Nancy Robinson</cp:lastModifiedBy>
  <dcterms:modified xsi:type="dcterms:W3CDTF">2009-03-10T20:37:13Z</dcterms:modified>
  <cp:revision>6</cp:revision>
  <dc:subject/>
  <dc:title>Summer School  2009</dc:title>
</cp:coreProperties>
</file>